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gif" ContentType="image/gif"/>
  <Override PartName="/ppt/media/image7.jpeg" ContentType="image/jpeg"/>
  <Override PartName="/ppt/media/image12.jpeg" ContentType="image/jpeg"/>
  <Override PartName="/ppt/media/image3.gif" ContentType="image/gif"/>
  <Override PartName="/ppt/media/image4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512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2CA92-CFD3-4523-A194-A9CB474ABB2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57DA3-EE45-4BB4-8C13-33BF503456D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0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9568F-2E9A-4222-A02F-214DAF1F398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CB873-0673-4226-9444-4C84D1AB950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6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05123-C3F1-4687-8767-307A4E74AC3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9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43FBE-83EA-46D3-BAF3-0D59531C040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2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96510-CE99-4344-B828-422D97A1F8E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5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4B797-CBFA-4A8B-B00A-F1D46445F04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8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4984A-CFFC-43E6-8F24-A94080374B8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1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0B00E-CEDA-428B-8C9B-BA3A32B55AC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4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D7D47-42ED-4BAF-B2D3-91D24577EA5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7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074C-88A9-42CF-8A1E-A27E204E4F2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6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F0BFC-7AD2-4870-B842-C6C1BD6EBD2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0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4FAEA-5EF6-4F27-91C0-C0F0BA6184A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B23FD-0FAA-4490-8C9B-B16298131A6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6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AEECD-C65F-4651-9E7D-6B4BD447AF0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9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EACA4-1D58-47A8-A725-94F678728F9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9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3F176-F31B-4F84-B337-5B5DB09DC96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2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44C82-D85D-4196-B187-E0F751D92AE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5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FD0ED-9AE0-417F-B20A-0C7110BBC0B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8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C8488-38FB-4ECF-AFDB-641EDDFBA3B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1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48329-0167-44E4-9687-49C0B6CEEF7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4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32D58-F002-48FF-BE55-606C60420B1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7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59B97-4CE6-412D-B7D7-BAD7230BB4F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80B2-E409-4EEB-9A88-82073F8A9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50AC-31A5-402D-B722-3F3CD14F8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046A-AB87-4D8E-A72D-C464113A5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6E2E-C935-4467-8735-336A72610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DF7EB-6B72-415A-8E99-DD73C5B4D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90D92-0A7F-4541-A746-6099E1DF0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7EBE6-5F3F-4981-8633-A36E94FEC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F00F3-323C-4937-A192-7BBE929B4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1F045-D183-4AAA-BBC8-79278B122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B35B6-8103-49E5-AC9F-DAA218831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ABAA8-4808-4524-8BBE-ACA52914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7A1C-48A4-4FA7-B6BC-30A14DBB3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8514B-1593-4942-B5B0-3ACDA85A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68BE2-D925-48D8-A730-C3250348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B69D1-6608-4D36-A7D9-152B21F44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FCE34-11FC-44F3-A15C-1F28B4554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37D86-FB33-4C92-B170-41EFDAD21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9A49C6-6A9E-41BA-B2C1-C20B1E8AA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BD1965-6587-4DAC-9723-732D81415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2CA29A-020A-4C61-8131-109ADA410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5C15AA-4353-4B46-9B22-CDC666985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543C47-3D6F-43CB-B99F-89DCF8250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7A18-1C24-4DB3-95DB-64DF1B9DC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909B0A-4AA1-42E8-BF65-B175C8FB1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DB82E5-6BC7-429B-BDC1-8243752D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1E8105-B3B8-4CE5-BF4C-4C62A400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78EFDA-B870-4415-B702-8EE9826F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0769F9-EB18-405B-9203-1D7710D58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95B23A-1F7E-4504-BB2D-19A214CD8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A97381-97ED-4F48-AA9A-1C26665BB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4B855-998E-49E4-B7A9-36C95EB99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E0514-3C7A-4F57-8F52-B03BDE6AF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90E9C-4ADB-462E-92C2-11CD8B1AD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3C2D-B86A-4A4B-A785-19E41AC87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C536E-0404-4A05-96EF-E16606471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B5213-6174-4B0A-A0C3-F146ED975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05D9B-D699-44D6-B4AC-797CCC393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41C31-2F39-4238-9A13-5A38C1C1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C4F8A-01C0-4164-B4EA-E89B9432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6C420-1C51-423C-8B3E-E4583FE8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6F0BD-4026-4801-90B4-A518AA417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57073-BC45-4518-BC2F-F00905EC3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A5B8E-2A68-48AB-9671-B7FFAC930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6718-FD65-4683-A942-46EB2CBC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A4D0-7F27-4299-9F62-72DAD819A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7ED6-3491-4877-A8CD-E0A997D1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03F0-7F49-4B37-B27C-FE17E97A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8250-21A0-4CFB-A278-F1C448BF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Georgia"/>
                <a:ea typeface="맑은 고딕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B92E7-7E50-497E-AF19-154BA1D6FCB2}" type="slidenum">
              <a:rPr b="0" lang="ko-KR" sz="2400" spc="-1" strike="noStrike">
                <a:solidFill>
                  <a:srgbClr val="ffffff"/>
                </a:solidFill>
                <a:latin typeface="Georgia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직사각형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직사각형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직사각형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모서리가 둥근 직사각형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모서리가 둥근 직사각형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직사각형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Georgia"/>
                <a:ea typeface="맑은 고딕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40E8E-8826-4F56-8F8E-AE014D443ABE}" type="slidenum">
              <a:rPr b="0" lang="ko-KR" sz="2400" spc="-1" strike="noStrike">
                <a:solidFill>
                  <a:srgbClr val="ffffff"/>
                </a:solidFill>
                <a:latin typeface="Georgia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Georgia"/>
                <a:ea typeface="맑은 고딕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E91D4-ED45-46B5-8701-42130205BE86}" type="slidenum">
              <a:rPr b="0" lang="ko-KR" sz="2400" spc="-1" strike="noStrike">
                <a:solidFill>
                  <a:srgbClr val="ffffff"/>
                </a:solidFill>
                <a:latin typeface="Georgia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Georgia"/>
                <a:ea typeface="맑은 고딕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1DA43-3B92-4A74-86B8-104526BDF779}" type="slidenum">
              <a:rPr b="0" lang="ko-KR" sz="2400" spc="-1" strike="noStrike">
                <a:solidFill>
                  <a:srgbClr val="ffffff"/>
                </a:solidFill>
                <a:latin typeface="Georgia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2/22/Carnot_heat_engine_2.svg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Trebuchet MS"/>
              </a:rPr>
              <a:t>현대기술과 공학은 응용과학인가</a:t>
            </a: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현대 기술과 공학의 철학 </a:t>
            </a: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4</a:t>
            </a: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주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2010</a:t>
            </a: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년 </a:t>
            </a: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10</a:t>
            </a: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월 </a:t>
            </a: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1</a:t>
            </a: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정동욱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424456"/>
                </a:solidFill>
                <a:latin typeface="Trebuchet MS"/>
              </a:rPr>
              <a:t>열과 일의 관계에 대한 줄의 실험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(1845)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6840" y="2249640"/>
            <a:ext cx="454644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1830</a:t>
            </a:r>
            <a:r>
              <a:rPr b="0" lang="ko-KR" sz="2400" spc="-1" strike="noStrike">
                <a:solidFill>
                  <a:srgbClr val="000000"/>
                </a:solidFill>
                <a:latin typeface="Georgia"/>
              </a:rPr>
              <a:t>년대부터 모터 설계 및 경제적 효율 측정 문제에 몰두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Georgia"/>
              </a:rPr>
              <a:t>무게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Georgia"/>
              </a:rPr>
              <a:t>파운드의 물의 온도를 화씨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Georgia"/>
              </a:rPr>
              <a:t>도만큼 올리기 위해서는 무게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890</a:t>
            </a:r>
            <a:r>
              <a:rPr b="0" lang="ko-KR" sz="2400" spc="-1" strike="noStrike">
                <a:solidFill>
                  <a:srgbClr val="000000"/>
                </a:solidFill>
                <a:latin typeface="Georgia"/>
              </a:rPr>
              <a:t>파운드의 물체를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Georgia"/>
              </a:rPr>
              <a:t>피트 높이에서 낙하시켜야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Georgia"/>
              </a:rPr>
              <a:t>‘열의 역학적 등가량’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Georgia"/>
              </a:rPr>
              <a:t>높은 곳에 있던 추가 낮은 곳으로 떨어지며 일을 수행한 만큼 열이 생산되듯이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0" lang="ko-KR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Georgia"/>
              </a:rPr>
              <a:t>증기기관에서는 높은 온도에서 낮은 온도로 떨어지며 열이 소비된 만큼 일이 생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48" name="_x69453024" descr="EMB00000dd03d65"/>
          <p:cNvPicPr/>
          <p:nvPr/>
        </p:nvPicPr>
        <p:blipFill>
          <a:blip r:embed="rId1"/>
          <a:stretch/>
        </p:blipFill>
        <p:spPr>
          <a:xfrm>
            <a:off x="5003640" y="2060640"/>
            <a:ext cx="3456000" cy="44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전자기 상호 작용의 발견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vs.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52" name="_x69473696" descr="EMB00000dd03d66"/>
          <p:cNvPicPr/>
          <p:nvPr/>
        </p:nvPicPr>
        <p:blipFill>
          <a:blip r:embed="rId1"/>
          <a:stretch/>
        </p:blipFill>
        <p:spPr>
          <a:xfrm>
            <a:off x="4572000" y="2133720"/>
            <a:ext cx="3456000" cy="3946320"/>
          </a:xfrm>
          <a:prstGeom prst="rect">
            <a:avLst/>
          </a:prstGeom>
          <a:ln w="0">
            <a:noFill/>
          </a:ln>
        </p:spPr>
      </p:pic>
      <p:sp>
        <p:nvSpPr>
          <p:cNvPr id="253" name="TextBox 5"/>
          <p:cNvSpPr/>
          <p:nvPr/>
        </p:nvSpPr>
        <p:spPr>
          <a:xfrm>
            <a:off x="5113800" y="6093000"/>
            <a:ext cx="25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패러데이의 전자기 회전기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(1821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55" name="_x69388840" descr="EMB00000dd03d67"/>
          <p:cNvPicPr/>
          <p:nvPr/>
        </p:nvPicPr>
        <p:blipFill>
          <a:blip r:embed="rId2"/>
          <a:stretch/>
        </p:blipFill>
        <p:spPr>
          <a:xfrm>
            <a:off x="971640" y="1916280"/>
            <a:ext cx="2736720" cy="1777680"/>
          </a:xfrm>
          <a:prstGeom prst="rect">
            <a:avLst/>
          </a:prstGeom>
          <a:ln w="0">
            <a:noFill/>
          </a:ln>
        </p:spPr>
      </p:pic>
      <p:sp>
        <p:nvSpPr>
          <p:cNvPr id="256" name="TextBox 8"/>
          <p:cNvSpPr/>
          <p:nvPr/>
        </p:nvSpPr>
        <p:spPr>
          <a:xfrm>
            <a:off x="1348560" y="357336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외르스테드 효과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(1820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57" name="Picture 5" descr=""/>
          <p:cNvPicPr/>
          <p:nvPr/>
        </p:nvPicPr>
        <p:blipFill>
          <a:blip r:embed="rId3"/>
          <a:stretch/>
        </p:blipFill>
        <p:spPr>
          <a:xfrm>
            <a:off x="826920" y="4076640"/>
            <a:ext cx="3249720" cy="2089080"/>
          </a:xfrm>
          <a:prstGeom prst="rect">
            <a:avLst/>
          </a:prstGeom>
          <a:ln w="0">
            <a:noFill/>
          </a:ln>
        </p:spPr>
      </p:pic>
      <p:sp>
        <p:nvSpPr>
          <p:cNvPr id="258" name="TextBox 10"/>
          <p:cNvSpPr/>
          <p:nvPr/>
        </p:nvSpPr>
        <p:spPr>
          <a:xfrm>
            <a:off x="1278000" y="6237360"/>
            <a:ext cx="239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패러데이의 전자기 유도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(1831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vs. 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실용적 전기 기술의 도입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전신은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1836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년 경에야 실용화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모터와 발전기는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1860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년대에야 실용화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중앙발전기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-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전력 시스템은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1880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년대에야 실용화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이러한 지체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?)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가 발생하는 이유는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자연의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causal capacity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를 인간의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means-end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로 번역하는 과정 필요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그 과정에서 최초의 응용에서는 생각지 않았던 수많은 부가적 요소 함께 고려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진단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과학 이론 없이는 기술 발전 불가능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명확한 설명 없이도 특정한 방식으로 특정한 결과를 산출하는 좋은 기법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방법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설계에 대한 지식 가능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53548a"/>
                </a:solidFill>
                <a:latin typeface="Georgia"/>
              </a:rPr>
              <a:t>수많은 약품</a:t>
            </a: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, </a:t>
            </a:r>
            <a:r>
              <a:rPr b="0" lang="ko-KR" sz="2200" spc="-1" strike="noStrike">
                <a:solidFill>
                  <a:srgbClr val="53548a"/>
                </a:solidFill>
                <a:latin typeface="Georgia"/>
              </a:rPr>
              <a:t>합금</a:t>
            </a: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 </a:t>
            </a:r>
            <a:r>
              <a:rPr b="0" lang="ko-KR" sz="2200" spc="-1" strike="noStrike">
                <a:solidFill>
                  <a:srgbClr val="53548a"/>
                </a:solidFill>
                <a:latin typeface="Georgia"/>
              </a:rPr>
              <a:t>등은 여전히 시행착오의 방법으로 개발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기술적 문제에 대한 해답을 과학 이론이 제공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기술적 해결 뒤에 과학적 설명이 따르는 경우 많음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오히려 기술 발전은 관련 과학 분야의 형성에도 기여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53548a"/>
                </a:solidFill>
                <a:latin typeface="Georgia"/>
              </a:rPr>
              <a:t>터보제트 엔진은 초음속 기체역학을 탄생시킴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53548a"/>
                </a:solidFill>
                <a:latin typeface="Georgia"/>
              </a:rPr>
              <a:t>트랜지스터의 발명이 고체물리학을 탄생시킴</a:t>
            </a: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(</a:t>
            </a:r>
            <a:r>
              <a:rPr b="0" lang="ko-KR" sz="2200" spc="-1" strike="noStrike">
                <a:solidFill>
                  <a:srgbClr val="53548a"/>
                </a:solidFill>
                <a:latin typeface="Georgia"/>
              </a:rPr>
              <a:t>경제적 유인</a:t>
            </a: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)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과학만을 기술에 유관한 지식으로 생각하는 문제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자연적 지식뿐 아니라 심리적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경제적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사회적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그리고 기술적 지식까지 모두 필요 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(e.g.,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전기 기술의 경우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)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기술은 과학과 상이한 활동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611280" y="2421000"/>
          <a:ext cx="7200720" cy="2592360"/>
        </p:xfrm>
        <a:graphic>
          <a:graphicData uri="http://schemas.openxmlformats.org/drawingml/2006/table">
            <a:tbl>
              <a:tblPr/>
              <a:tblGrid>
                <a:gridCol w="992160"/>
                <a:gridCol w="2560680"/>
                <a:gridCol w="3647880"/>
              </a:tblGrid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Georgia"/>
                          <a:ea typeface="맑은 고딕"/>
                        </a:rPr>
                        <a:t>과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Georgia"/>
                          <a:ea typeface="맑은 고딕"/>
                        </a:rPr>
                        <a:t>기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실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지식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이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실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응용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대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자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인공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동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지적 호기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실질적 유용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목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설명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예측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)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과 이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디자인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,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발명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,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개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,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생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</a:tbl>
          </a:graphicData>
        </a:graphic>
      </p:graphicFrame>
      <p:sp>
        <p:nvSpPr>
          <p:cNvPr id="265" name="TextBox 4"/>
          <p:cNvSpPr/>
          <p:nvPr/>
        </p:nvSpPr>
        <p:spPr>
          <a:xfrm>
            <a:off x="611280" y="522936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과학과 기술은 동기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목적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대상이 다른 서로 구분되는 활동으로서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, 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과학자와 기술자 사회 역시 상이한 가치체계를 가진 상이한 집단이다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TextBox 5"/>
          <p:cNvSpPr/>
          <p:nvPr/>
        </p:nvSpPr>
        <p:spPr>
          <a:xfrm>
            <a:off x="1412640" y="6093000"/>
            <a:ext cx="312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이것만으로 응용과학 테제 손쉽게 비판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가능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의 응용과학 테제에서도 과학과 기술이 다른 목적을 가진다는 것은 인정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다만 과학적 지식을 응용하여 그 목적을 이룬다고 생각할 뿐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지식으로서의 기술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과학 지식과 독자적인 기술 지식이 있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최대 효율을 얻기 위한 최적화 조건에 대한 지식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효과적인 디자인에 대한 지식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다양한 요구조건을 절충하는 디자인 능력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공학자는 바로 이러한 종류의 지식을 갖춘 전문가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왜 이것이 중요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기술적 지식의 존재가 부각되면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기술이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‘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과학적 지식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’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의 응용이라는 견해를 결정적으로 반박하게 됨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기술적 지식의 몇몇 특징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많은 부분 암묵적 지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특정한 솜씨나 방법은 말로 전수 어려움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E.g., </a:t>
            </a: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자전거 타기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뻑뻑한 자물쇠 열기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18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세기 운하 건설 비법은 대체로 구전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문맹 기술자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일반화되지 않는 개별적 사례에 기반한 지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이럴 땐 이렇게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저럴 땐 저렇게 하면 된다는 지식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하지만 일반화하여 공식화하기 어려운 경우 많음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명제적 형태가 아닌 절차적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시각적 형태의 지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설계도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조립도의 형태의 지식은 참 거짓이 아닌 절차에 관한 요약에 가까움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여러 용도의</a:t>
            </a:r>
            <a:br>
              <a:rPr sz="2800"/>
            </a:b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여러 도끼 형태들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5" name="그림 3" descr="IMG_8913.JPG"/>
          <p:cNvPicPr/>
          <p:nvPr/>
        </p:nvPicPr>
        <p:blipFill>
          <a:blip r:embed="rId1"/>
          <a:stretch/>
        </p:blipFill>
        <p:spPr>
          <a:xfrm>
            <a:off x="4284720" y="1197000"/>
            <a:ext cx="4390920" cy="54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8" name="내용 개체 틀 3" descr="IMG_8926.JPG"/>
          <p:cNvPicPr/>
          <p:nvPr/>
        </p:nvPicPr>
        <p:blipFill>
          <a:blip r:embed="rId1"/>
          <a:stretch/>
        </p:blipFill>
        <p:spPr>
          <a:xfrm>
            <a:off x="642960" y="2000160"/>
            <a:ext cx="5033880" cy="3335400"/>
          </a:xfrm>
          <a:prstGeom prst="rect">
            <a:avLst/>
          </a:prstGeom>
          <a:ln w="0">
            <a:noFill/>
          </a:ln>
        </p:spPr>
      </p:pic>
      <p:pic>
        <p:nvPicPr>
          <p:cNvPr id="279" name="그림 4" descr="IMG_8927.JPG"/>
          <p:cNvPicPr/>
          <p:nvPr/>
        </p:nvPicPr>
        <p:blipFill>
          <a:blip r:embed="rId2"/>
          <a:stretch/>
        </p:blipFill>
        <p:spPr>
          <a:xfrm>
            <a:off x="5929200" y="2000160"/>
            <a:ext cx="3048120" cy="4064040"/>
          </a:xfrm>
          <a:prstGeom prst="rect">
            <a:avLst/>
          </a:prstGeom>
          <a:ln w="0">
            <a:noFill/>
          </a:ln>
        </p:spPr>
      </p:pic>
      <p:sp>
        <p:nvSpPr>
          <p:cNvPr id="280" name="TextBox 5"/>
          <p:cNvSpPr/>
          <p:nvPr/>
        </p:nvSpPr>
        <p:spPr>
          <a:xfrm>
            <a:off x="1541160" y="5516640"/>
            <a:ext cx="32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레오나르도 다 빈치의 톱니바퀴 조립도와 분해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현대 기술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= 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응용과학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현대 기술은 과학 이론의 응용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건축과 기계는 역학의 응용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증기기관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내연기관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제트엔진은 열역학의 응용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발전기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모터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전신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라디오는 전자기학의 응용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핵발전과 핵폭탄은 상대성이론과 양자역학의 응용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반도체는 고체물리학의 응용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의학과 약학은 화학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생물학 등의 응용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현대 기술은 과학적 방법의 응용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의학과 약학은 엄격한 실험적 테스트를 필요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각종 인공물들도 엄격한 실험적 테스트 받음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과학의 방법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vs. 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공학의 방법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과학적 실험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s.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공학적 실험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이론 입증 실험 </a:t>
            </a:r>
            <a:br>
              <a:rPr sz="2600"/>
            </a:b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vs.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다양한 변수에 따른 결과 변화 관찰 실험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과학적 모형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s.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공학적 모형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가설적으로 설명하고 예측하기 위한 이론적 모형</a:t>
            </a:r>
            <a:br>
              <a:rPr sz="2600"/>
            </a:b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vs.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실제 대상과 환경을 모방한 스케일 모형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5" name="내용 개체 틀 5" descr="IMG_8924-1.JPG"/>
          <p:cNvPicPr/>
          <p:nvPr/>
        </p:nvPicPr>
        <p:blipFill>
          <a:blip r:embed="rId1"/>
          <a:stretch/>
        </p:blipFill>
        <p:spPr>
          <a:xfrm>
            <a:off x="539640" y="692280"/>
            <a:ext cx="4032360" cy="5865840"/>
          </a:xfrm>
          <a:prstGeom prst="rect">
            <a:avLst/>
          </a:prstGeom>
          <a:ln w="0">
            <a:noFill/>
          </a:ln>
        </p:spPr>
      </p:pic>
      <p:sp>
        <p:nvSpPr>
          <p:cNvPr id="286" name="TextBox 4"/>
          <p:cNvSpPr/>
          <p:nvPr/>
        </p:nvSpPr>
        <p:spPr>
          <a:xfrm>
            <a:off x="4788000" y="2708280"/>
            <a:ext cx="338436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Georgia"/>
                <a:ea typeface="맑은 고딕"/>
              </a:rPr>
              <a:t>전형적인 </a:t>
            </a:r>
            <a:br>
              <a:rPr sz="2800"/>
            </a:br>
            <a:r>
              <a:rPr b="1" lang="ko-KR" sz="2800" spc="-1" strike="noStrike">
                <a:solidFill>
                  <a:srgbClr val="000000"/>
                </a:solidFill>
                <a:latin typeface="Georgia"/>
                <a:ea typeface="맑은 고딕"/>
              </a:rPr>
              <a:t>공학적 모형과 실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참 거짓을 따지는 실험이 아님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Georgia"/>
                <a:ea typeface="맑은 고딕"/>
              </a:rPr>
              <a:t>속력에 따른 각 비행기 모형의 항력 증가 추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그렇다면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…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현대로 올수록 밀접해지는 과학과 기술의 관계는 어떻게 설명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대상의 혼합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목적과 동기의 혼합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방법과 지식 형태의 혼합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과학과 기술 사이의 다양한 접점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경계물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(</a:t>
            </a: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도구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), </a:t>
            </a: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경계인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경계공간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과학적 지식과 기술적 지식은 정말 다른가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과제물 </a:t>
            </a:r>
            <a:br>
              <a:rPr sz="4000"/>
            </a:br>
            <a:r>
              <a:rPr b="0" lang="en-US" sz="2000" spc="-1" strike="noStrike">
                <a:solidFill>
                  <a:srgbClr val="424456"/>
                </a:solidFill>
                <a:latin typeface="Trebuchet MS"/>
              </a:rPr>
              <a:t>(</a:t>
            </a:r>
            <a:r>
              <a:rPr b="0" lang="ko-KR" sz="2000" spc="-1" strike="noStrike">
                <a:solidFill>
                  <a:srgbClr val="424456"/>
                </a:solidFill>
                <a:latin typeface="Trebuchet MS"/>
              </a:rPr>
              <a:t>아래 과제 중 하나를 골라 </a:t>
            </a:r>
            <a:r>
              <a:rPr b="0" lang="en-US" sz="2000" spc="-1" strike="noStrike">
                <a:solidFill>
                  <a:srgbClr val="424456"/>
                </a:solidFill>
                <a:latin typeface="Trebuchet MS"/>
              </a:rPr>
              <a:t>A4 </a:t>
            </a:r>
            <a:r>
              <a:rPr b="0" lang="ko-KR" sz="2000" spc="-1" strike="noStrike">
                <a:solidFill>
                  <a:srgbClr val="424456"/>
                </a:solidFill>
                <a:latin typeface="Trebuchet MS"/>
              </a:rPr>
              <a:t>한 페이지 이내로 작성하여 제출하시오</a:t>
            </a:r>
            <a:r>
              <a:rPr b="0" lang="en-US" sz="2000" spc="-1" strike="noStrike">
                <a:solidFill>
                  <a:srgbClr val="424456"/>
                </a:solidFill>
                <a:latin typeface="Trebuchet MS"/>
              </a:rPr>
              <a:t>.)</a:t>
            </a:r>
            <a:endParaRPr b="0" lang="en-US" sz="2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특정한 발명의 잠재적 편익이 다른 보완적 기술과 결합함으로써 온전히 실현된 사례를 찾아 설명하시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표준이 정립되지 않아 기술의 이익을 극대화지 못하는 경우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또는 과거의 표준 때문에 새로운 기술의 도입이 지체되는 경우를 찾아 설명하시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과학 이론이나 과학적 발견이 기술 발전을 가이드한 사례 또는 반대로 기술 발전이 관련 과학 분야의 성장을 촉진한 사례를 찾아 그 과정을 설명하시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과거의 원시적 기술과 달리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…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의 작동이나 실패는 과학적으로 설명되거나 예측될 수 있으며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적 문제의 해법은 과학 이론이 제공해준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과학 이론이 기술적 문제 해결을 가이드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주먹구구와 단순한 시행착오의 방법을 탈피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신뢰하기 어려운 효능 보고가 아닌 체계적이고 엄격한 과학적 시험 절차에 의해 기술의 효능이나 안전성이 정당화된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(e.g.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대조군 실험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통계분석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모형 및 시뮬레이션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위약 실험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차원 분석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문제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: 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역사적 사실과의 불일치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산업혁명과 과학 이론 사이의 무관성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증기기관과 열역학의 선후 문제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전자기학과 실제 모터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발전기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발명 사이의 간극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비행기 기술과 기존 과학 사이의 양립 불가능성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라이트 형제의 비행기 발명 전까지 과학자들은 </a:t>
            </a:r>
            <a:br>
              <a:rPr sz="2600"/>
            </a:b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공기보다 무거운 물체가 하늘을 날 수 없다고 생각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229" name="Picture 2" descr="라이트형제의 플라이어호"/>
          <p:cNvPicPr/>
          <p:nvPr/>
        </p:nvPicPr>
        <p:blipFill>
          <a:blip r:embed="rId1"/>
          <a:stretch/>
        </p:blipFill>
        <p:spPr>
          <a:xfrm>
            <a:off x="5940360" y="5037120"/>
            <a:ext cx="251928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18-19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세기 산업혁명에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 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대한 평가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산업혁명을 이끈 주요 기계들 ≠ 과학적 성취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하그브리스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방직공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)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의 제니 방적기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아크라이트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이발사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)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의 수력 방적기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크롬퓨턴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요먼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)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의 뮬 방적기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카트라이트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목사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)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의 역직기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와트의 증기기관은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조지프 블랙의 잠열 이론 응용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? No!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뉴커먼 기관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4" name="내용 개체 틀 6" descr="cornewc.gif"/>
          <p:cNvPicPr/>
          <p:nvPr/>
        </p:nvPicPr>
        <p:blipFill>
          <a:blip r:embed="rId1"/>
          <a:stretch/>
        </p:blipFill>
        <p:spPr>
          <a:xfrm>
            <a:off x="2916360" y="1177920"/>
            <a:ext cx="5688000" cy="54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와트의 개량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7" name="내용 개체 틀 7" descr="corwatt.gif"/>
          <p:cNvPicPr/>
          <p:nvPr/>
        </p:nvPicPr>
        <p:blipFill>
          <a:blip r:embed="rId1"/>
          <a:stretch/>
        </p:blipFill>
        <p:spPr>
          <a:xfrm>
            <a:off x="3132000" y="1122480"/>
            <a:ext cx="555624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와트의 </a:t>
            </a:r>
            <a:br>
              <a:rPr sz="2800"/>
            </a:b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회전운동 기관</a:t>
            </a:r>
            <a:br>
              <a:rPr sz="2800"/>
            </a:br>
            <a:br>
              <a:rPr sz="2800"/>
            </a:b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상하운동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회전운동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0" name="Picture 4" descr="Watt rotary motion"/>
          <p:cNvPicPr/>
          <p:nvPr/>
        </p:nvPicPr>
        <p:blipFill>
          <a:blip r:embed="rId1"/>
          <a:stretch/>
        </p:blipFill>
        <p:spPr>
          <a:xfrm>
            <a:off x="3203640" y="907920"/>
            <a:ext cx="5688000" cy="55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증기기관의 과학적 기여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증기기관 기술은 과학에 여러 개념들 제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“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일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(work)”, “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일률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(power)”, “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효율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(efficiency)”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증기기관의 효율을 결정하는 요소가 무엇인지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어떻게 효율을 높일 수 있는지에 관한 공학적 문제가 열역학 형성에 결정적인 기여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3" name="Picture 2" descr="그림:Carnot heat engine 2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4724280"/>
            <a:ext cx="4249800" cy="1870200"/>
          </a:xfrm>
          <a:prstGeom prst="rect">
            <a:avLst/>
          </a:prstGeom>
          <a:ln w="0">
            <a:noFill/>
          </a:ln>
        </p:spPr>
      </p:pic>
      <p:sp>
        <p:nvSpPr>
          <p:cNvPr id="244" name="TextBox 5"/>
          <p:cNvSpPr/>
          <p:nvPr/>
        </p:nvSpPr>
        <p:spPr>
          <a:xfrm>
            <a:off x="5219640" y="5157720"/>
            <a:ext cx="352908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  <a:ea typeface="맑은 고딕"/>
              </a:rPr>
              <a:t>W = Q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Georgia"/>
                <a:ea typeface="맑은 고딕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  <a:ea typeface="맑은 고딕"/>
              </a:rPr>
              <a:t> – Q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Georgia"/>
                <a:ea typeface="맑은 고딕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  <a:ea typeface="맑은 고딕"/>
              </a:rPr>
              <a:t>Hear Efficiency = W / Q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Georgia"/>
                <a:ea typeface="맑은 고딕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30T06:07:28Z</dcterms:created>
  <dc:creator>zolaist</dc:creator>
  <dc:description/>
  <dc:language>en-US</dc:language>
  <cp:lastModifiedBy>zolaist</cp:lastModifiedBy>
  <dcterms:modified xsi:type="dcterms:W3CDTF">2010-10-01T02:40:10Z</dcterms:modified>
  <cp:revision>37</cp:revision>
  <dc:subject/>
  <dc:title>현대기술과 공학은 응용과학인가?</dc:title>
</cp:coreProperties>
</file>